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47C-F28D-4DE3-9ED1-E8BA4874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3282-82DC-483A-A622-5D32A357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534-32F3-4109-AF6A-CDAF464D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4C1-68D1-4C09-997F-8D472E3C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755-3BA1-4CC7-89A2-13800293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1C1-0B76-421D-B7F4-8B356BE9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877-A0BD-49DD-A975-37508A8C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314-ECEE-4D6F-BEA0-EC42D6BE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597-C8A0-4056-B10F-D8435744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20F5-B33A-432D-BED4-0133C065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414E-0A66-4E66-8E50-E752E562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7166-9A61-4764-BDF3-0E85E30A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3AB5-F06E-4DE7-A8D8-F21E35307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21920" y="278640"/>
            <a:ext cx="6137280" cy="8179920"/>
            <a:chOff x="421920" y="278640"/>
            <a:chExt cx="6137280" cy="8179920"/>
          </a:xfrm>
        </p:grpSpPr>
        <p:grpSp>
          <p:nvGrpSpPr>
            <p:cNvPr id="42" name=""/>
            <p:cNvGrpSpPr/>
            <p:nvPr/>
          </p:nvGrpSpPr>
          <p:grpSpPr>
            <a:xfrm>
              <a:off x="421920" y="278640"/>
              <a:ext cx="6137280" cy="8179920"/>
              <a:chOff x="421920" y="278640"/>
              <a:chExt cx="6137280" cy="8179920"/>
            </a:xfrm>
          </p:grpSpPr>
          <p:sp>
            <p:nvSpPr>
              <p:cNvPr id="43" name=""/>
              <p:cNvSpPr/>
              <p:nvPr/>
            </p:nvSpPr>
            <p:spPr>
              <a:xfrm>
                <a:off x="422280" y="278640"/>
                <a:ext cx="6123960" cy="8179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30520" y="7639560"/>
                <a:ext cx="1638000" cy="81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5400000">
                <a:off x="12240" y="1505160"/>
                <a:ext cx="2453400" cy="1634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6200000">
                <a:off x="4233600" y="4640400"/>
                <a:ext cx="2454840" cy="163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22280" y="4777200"/>
                <a:ext cx="2454120" cy="163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103640" y="1300680"/>
                <a:ext cx="2455560" cy="163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239480" y="4777200"/>
                <a:ext cx="1022760" cy="2037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717440" y="1300680"/>
                <a:ext cx="1022040" cy="2030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26760" y="3345120"/>
                <a:ext cx="1021680" cy="2044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42920" y="6480720"/>
                <a:ext cx="1021680" cy="2037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35000" y="7639560"/>
                <a:ext cx="1021680" cy="2048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5400000">
                <a:off x="2058480" y="8048880"/>
                <a:ext cx="612000" cy="2037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5400000">
                <a:off x="3695040" y="2117880"/>
                <a:ext cx="1021320" cy="2044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5400000">
                <a:off x="1444320" y="1504440"/>
                <a:ext cx="1022040" cy="2044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5400000">
                <a:off x="4233600" y="4844160"/>
                <a:ext cx="1022760" cy="2044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5400000">
                <a:off x="2262600" y="5594760"/>
                <a:ext cx="1022040" cy="2044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917720" y="2074680"/>
            <a:ext cx="3026880" cy="3359880"/>
            <a:chOff x="1917720" y="2074680"/>
            <a:chExt cx="3026880" cy="3359880"/>
          </a:xfrm>
        </p:grpSpPr>
        <p:sp>
          <p:nvSpPr>
            <p:cNvPr id="60" name=""/>
            <p:cNvSpPr/>
            <p:nvPr/>
          </p:nvSpPr>
          <p:spPr>
            <a:xfrm rot="10800000">
              <a:off x="1917720" y="2074680"/>
              <a:ext cx="3026880" cy="335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5400000">
              <a:off x="993600" y="3419640"/>
              <a:ext cx="2100240" cy="252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3682800" y="5016600"/>
              <a:ext cx="1261800" cy="417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707400" y="513360"/>
            <a:ext cx="593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400" spc="-1" strike="noStrike">
                <a:solidFill>
                  <a:srgbClr val="000000"/>
                </a:solidFill>
                <a:latin typeface="Comic Sans MS"/>
              </a:rPr>
              <a:t>Gwarchodwr (guar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692280" y="3708000"/>
            <a:ext cx="5309640" cy="4808520"/>
            <a:chOff x="692280" y="3708000"/>
            <a:chExt cx="5309640" cy="4808520"/>
          </a:xfrm>
        </p:grpSpPr>
        <p:sp>
          <p:nvSpPr>
            <p:cNvPr id="65" name=""/>
            <p:cNvSpPr/>
            <p:nvPr/>
          </p:nvSpPr>
          <p:spPr>
            <a:xfrm rot="217800">
              <a:off x="2592000" y="5850720"/>
              <a:ext cx="1501560" cy="2620800"/>
            </a:xfrm>
            <a:prstGeom prst="blockArc">
              <a:avLst>
                <a:gd name="adj1" fmla="val 11815748"/>
                <a:gd name="adj2" fmla="val 20584252"/>
                <a:gd name="adj3" fmla="val 230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692280" y="3708000"/>
              <a:ext cx="2630160" cy="32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3371400" y="4366080"/>
              <a:ext cx="2630520" cy="26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00080" y="57168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400" spc="-1" strike="noStrike">
                <a:solidFill>
                  <a:srgbClr val="000000"/>
                </a:solidFill>
                <a:latin typeface="Comic Sans MS"/>
              </a:rPr>
              <a:t>PIR:(Infra Red Sensors       - synhwyrydd isgo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1376280" y="3274920"/>
            <a:ext cx="3833640" cy="3409560"/>
            <a:chOff x="1376280" y="3274920"/>
            <a:chExt cx="3833640" cy="3409560"/>
          </a:xfrm>
        </p:grpSpPr>
        <p:sp>
          <p:nvSpPr>
            <p:cNvPr id="70" name=""/>
            <p:cNvSpPr/>
            <p:nvPr/>
          </p:nvSpPr>
          <p:spPr>
            <a:xfrm>
              <a:off x="1376280" y="4709880"/>
              <a:ext cx="638280" cy="425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038320" y="3274920"/>
              <a:ext cx="3149640" cy="147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90800" y="5096520"/>
              <a:ext cx="3219120" cy="158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806760" y="754560"/>
            <a:ext cx="479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5400" spc="-1" strike="noStrike">
                <a:solidFill>
                  <a:srgbClr val="000000"/>
                </a:solidFill>
                <a:latin typeface="Comic Sans MS"/>
              </a:rPr>
              <a:t>Camera CCTV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2:14:03Z</dcterms:created>
  <dc:creator>Betsan Jones</dc:creator>
  <dc:description/>
  <dc:language>en-US</dc:language>
  <cp:lastModifiedBy>Betsan Jones</cp:lastModifiedBy>
  <dcterms:modified xsi:type="dcterms:W3CDTF">2009-03-10T21:01:18Z</dcterms:modified>
  <cp:revision>2</cp:revision>
  <dc:subject/>
  <dc:title>Slide 1</dc:title>
</cp:coreProperties>
</file>